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BC6-21CC-45C9-893B-C20CF9F3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598-0172-4EBA-B85F-8B769ADE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C84-F6C5-4458-8842-3FE15F87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FA9-4B79-43E7-8E03-6E6977E4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C20-7D05-41BB-AC6D-95397F1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737-83D0-46A9-A7EE-B80527BA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4F1-3A2D-4A4D-9FB3-A2FE354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6F8-B27E-4C24-91AC-D106693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AFE-6D3E-4E55-99F7-4C5C11E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A88-D690-454B-B7F5-845C2C3B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095-68D7-4A2F-B5DC-12DE6FF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3F2-1DAF-4AE6-B683-3888C37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2F68-AC64-407B-ADE8-09196924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4332240"/>
            <a:ext cx="8229600" cy="204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Forte"/>
              </a:rPr>
              <a:t>Лабораторний практикум по те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Forte"/>
              </a:rPr>
              <a:t>«Створення квосвордів засобами MS Excel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228600"/>
            <a:ext cx="716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КИЇВСЬКЕ ВИЩЕ ПРОФЕСІЙНЕ УЧИЛИЩЕ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ccff33"/>
                </a:solidFill>
                <a:latin typeface="Arial"/>
              </a:rPr>
              <a:t>БУДІВНИЦТВА І АРХІТЕКТУРИ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ccff33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81360" y="2743200"/>
            <a:ext cx="456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ІСЬКА МЕТОДИЧ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КЦІЯ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ВИКЛАДАЧ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ФОРМАТИКИ ТА ІНФОРМАЦІЙ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17.11.2009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3962520" cy="182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86400" y="914400"/>
            <a:ext cx="1981080" cy="177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720" y="60753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иї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59120" y="61722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икладач: Ганущак Віталія Васил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648320" y="2895480"/>
            <a:ext cx="75888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99840" y="426672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ля того, щоб оформити правила роботи у вигляді примітки (спливаючої підказки), необхідно виділити слово «Примітка», натискувати праву кнопку миші і вибрати пункт Додати примітку.  Потім у вікні, що з'явилося, набрати потрібний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6456240" cy="304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2438280"/>
            <a:ext cx="2133720" cy="1524240"/>
          </a:xfrm>
          <a:prstGeom prst="wedgeRoundRectCallout">
            <a:avLst>
              <a:gd name="adj1" fmla="val -117930"/>
              <a:gd name="adj2" fmla="val -168856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Називаємо ячейку на гіперпосил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117d7"/>
                </a:solidFill>
                <a:latin typeface="Arial"/>
              </a:rPr>
              <a:t>Кро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657240" y="1828800"/>
            <a:ext cx="3048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247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Вибір і обгрунтування  способу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формленн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итань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5410440" cy="359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46483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На полі розміщується лише «сітка» з порожніми клітками для відповідей. До клітки, з якою починається слово-відповідь, робиться примітка, в якій формулювання питання. Для перегляду питання досить підвести  покажчик  миші на першу букву слова.  Якщо з однієї букви починається два слова, то в примітках перше питання пишеться по горизонталі, а друге питання по вертикал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286000"/>
            <a:ext cx="2057400" cy="1371600"/>
          </a:xfrm>
          <a:prstGeom prst="wedgeRoundRectCallout">
            <a:avLst>
              <a:gd name="adj1" fmla="val -217671"/>
              <a:gd name="adj2" fmla="val -61226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На другому чистому ли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Оформлюємо кро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. Складання пита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9604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4267080" cy="36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324480" y="2286000"/>
            <a:ext cx="2057400" cy="685800"/>
          </a:xfrm>
          <a:prstGeom prst="wedgeRoundRectCallout">
            <a:avLst>
              <a:gd name="adj1" fmla="val -208412"/>
              <a:gd name="adj2" fmla="val -78009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Вво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примі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1814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Аркуш  з  питаннями  обов'язково  повинен  містити  гіперпосилання  на  підсумковий  арку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10080" y="3200400"/>
            <a:ext cx="3353040" cy="1676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486400" y="6172200"/>
            <a:ext cx="2819520" cy="685800"/>
          </a:xfrm>
          <a:prstGeom prst="wedgeRoundRectCallout">
            <a:avLst>
              <a:gd name="adj1" fmla="val 36430"/>
              <a:gd name="adj2" fmla="val -294675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Гіперпосилання 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творення інформаційної бази для перевірки самоконтролю учн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224840" y="3505320"/>
            <a:ext cx="191916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219320"/>
            <a:ext cx="7239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ля цього  на  розрахунковому  аркуші  для  кожного  слова-відповіді  введемо  формулу,  що визначає,  чи  збігається  відповідь,  введена  учнем,  з  правильною  відповіддю.  Наприклад,  для  першого  питання  набираємо  формулу  у  вічку  А1,  для  другого -  у  вічку  А2  і так далі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икористовуємо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функції  Якщо і  ЗЧЕПИТИ  (функція   об'єднує  декілька  текстових  рядків  в  одну;  в даному випадку  об'єднуються  клітинки  з  буквами,  які  і  утворюють  відповід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514600" y="3808440"/>
            <a:ext cx="4648320" cy="304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4343400"/>
            <a:ext cx="2057400" cy="2209680"/>
          </a:xfrm>
          <a:prstGeom prst="wedgeRoundRectCallout">
            <a:avLst>
              <a:gd name="adj1" fmla="val 86032"/>
              <a:gd name="adj2" fmla="val -40587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Якщо відповідь буде вірна,то значення в комірці розрахунку буде рівно 1 бал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алі  підсумовуємо  значення  всіх  вічок,  в  яких   перевіряли  правильність  відповідей  на  питання,  знаходимо  середнє  значення    цих  вічок  (тобто визначаємо  долю  правильних  відповідей)  і  підраховуємо  оцінку.   Для цього  використовуємо  функцію  ЯКЩО(ЕС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733920"/>
            <a:ext cx="2743200" cy="1828800"/>
          </a:xfrm>
          <a:prstGeom prst="wedgeRoundRectCallout">
            <a:avLst>
              <a:gd name="adj1" fmla="val 31888"/>
              <a:gd name="adj2" fmla="val -125087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Наприкла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=ЕСЛИ (</a:t>
            </a:r>
            <a:r>
              <a:rPr b="0" lang="en-US" sz="1800" spc="-1" strike="noStrike">
                <a:solidFill>
                  <a:srgbClr val="5420e8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1&lt;15; 2; ЕСЛИ (</a:t>
            </a:r>
            <a:r>
              <a:rPr b="0" lang="en-US" sz="1800" spc="-1" strike="noStrike">
                <a:solidFill>
                  <a:srgbClr val="5420e8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1 &lt;22; 3; ЕСЛИ (</a:t>
            </a:r>
            <a:r>
              <a:rPr b="0" lang="en-US" sz="1800" spc="-1" strike="noStrike">
                <a:solidFill>
                  <a:srgbClr val="5420e8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1&lt;28;4;ЕСЛИ(</a:t>
            </a:r>
            <a:r>
              <a:rPr b="0" lang="en-US" sz="1800" spc="-1" strike="noStrike">
                <a:solidFill>
                  <a:srgbClr val="5420e8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1&gt;28:5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Шкала оцінювання навчальних досягнень учня у балах на екранах моніторі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иведення оцінки уч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Таблиця виведення оцінки виглядає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343400"/>
            <a:ext cx="33526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16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ведення прізвища учня виконує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6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а допомог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6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функції По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6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167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ॿࢀ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3062160" cy="658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67280" y="4800600"/>
            <a:ext cx="2895840" cy="1371600"/>
          </a:xfrm>
          <a:prstGeom prst="wedgeRoundRectCallout">
            <a:avLst>
              <a:gd name="adj1" fmla="val -58606"/>
              <a:gd name="adj2" fmla="val -134837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Підсумк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Лист виводиться автоматично якість навчальних досягн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3520" y="1192320"/>
            <a:ext cx="3733560" cy="3125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алі вводимо 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адресу вічка, яке потрібно повторити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і кількість повт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4952880" cy="243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7280" y="190512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ля виставляння оці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икористову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функція ЯКЩО(ЕС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514600" y="4017960"/>
            <a:ext cx="5638680" cy="284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5334120"/>
            <a:ext cx="2438280" cy="914400"/>
          </a:xfrm>
          <a:prstGeom prst="wedgeRoundRectCallout">
            <a:avLst>
              <a:gd name="adj1" fmla="val 97592"/>
              <a:gd name="adj2" fmla="val -148092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Вводи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420e8"/>
                </a:solidFill>
                <a:latin typeface="Arial"/>
              </a:rPr>
              <a:t>агрументи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981080"/>
            <a:ext cx="2895480" cy="1219320"/>
          </a:xfrm>
          <a:prstGeom prst="wedgeRoundRectCallout">
            <a:avLst>
              <a:gd name="adj1" fmla="val 82180"/>
              <a:gd name="adj2" fmla="val -117319"/>
              <a:gd name="adj3" fmla="val 16667"/>
            </a:avLst>
          </a:prstGeom>
          <a:solidFill>
            <a:srgbClr val="ffffcc"/>
          </a:solidFill>
          <a:ln w="25560">
            <a:solidFill>
              <a:srgbClr val="5420e8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0e8"/>
                </a:solidFill>
                <a:latin typeface="Arial"/>
              </a:rPr>
              <a:t>Можна присвоїти кросворду атрибут«Только для чт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040" y="5335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хист  ві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90920" y="121932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Комірки ,  в  яких  учень  вводить  інформацію  (прізвище,  група,  відповіді  на  питання),  мають  бути  доступні.  Всі  останні  комірки  слід  захистити  від внесення  яких-небудь  змін.  Для того, щоб  залишити ці комірки незахищеними потрібно їх виділити зайти в пункт меню Сервіс/Защита/Разрешить зміни діапазону. Всі останні комірки можна захистити, захищаючи л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2895480" cy="1371600"/>
          </a:xfrm>
          <a:prstGeom prst="wedgeRoundRectCallout">
            <a:avLst>
              <a:gd name="adj1" fmla="val -111240"/>
              <a:gd name="adj2" fmla="val -125115"/>
              <a:gd name="adj3" fmla="val 16667"/>
            </a:avLst>
          </a:prstGeom>
          <a:solidFill>
            <a:srgbClr val="ffffcc"/>
          </a:solidFill>
          <a:ln w="25560">
            <a:solidFill>
              <a:srgbClr val="5420e8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0e8"/>
                </a:solidFill>
                <a:latin typeface="Arial"/>
              </a:rPr>
              <a:t>Сервіс/Защита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0e8"/>
                </a:solidFill>
                <a:latin typeface="Arial"/>
              </a:rPr>
              <a:t>Разрешить зміни діапаз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952880"/>
            <a:ext cx="5562360" cy="1905120"/>
          </a:xfrm>
          <a:prstGeom prst="wedgeRoundRectCallout">
            <a:avLst>
              <a:gd name="adj1" fmla="val 30449"/>
              <a:gd name="adj2" fmla="val -92083"/>
              <a:gd name="adj3" fmla="val 16667"/>
            </a:avLst>
          </a:prstGeom>
          <a:solidFill>
            <a:srgbClr val="ffffcc"/>
          </a:solidFill>
          <a:ln w="25560">
            <a:solidFill>
              <a:srgbClr val="5420e8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0e8"/>
                </a:solidFill>
                <a:latin typeface="Arial"/>
              </a:rPr>
              <a:t>Щоб  захистити  аркуш,  вибираємо  пункт  меню  Сервіс/Защита/Защитіть  аркуш,  двічі  захистити,  необхідно  виділити  і  привласнити  шрифту  білий  колір,  тобто  розрахунковий  аркуш    здаватиметься  порожнім.І також(Формат/Аркуш/Скри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436572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Monotype Corsiva"/>
              </a:rPr>
              <a:t>Сподіваюсь, цей досвід стане в пригоді іншим викладачам інформат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Monotype Corsiva"/>
              </a:rPr>
              <a:t>Кросворди можна використовувати як у навчанні та позаурочних заходах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467480" y="5257800"/>
            <a:ext cx="1368720" cy="136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600200" y="30492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якуємо за уваг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4120" y="1752120"/>
            <a:ext cx="259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навчальна: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66"/>
                </a:solidFill>
                <a:latin typeface="Times New Roman"/>
              </a:rPr>
              <a:t>Ознайомитися з сучасними    ефективними методами навчання та оцінюван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виховна: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уважність, охайність, вдповідальні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розвиваюча: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прищепити творчий підхід і навики самостійного проектування та оптимізації завда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Лабораторний практикум по тем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Створення квосвордів зас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MS Excel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21680" y="4648320"/>
            <a:ext cx="182232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495680"/>
            <a:ext cx="281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ЧІКУВАНІ РЕЗУЛЬТ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Робота в електронних таблицях має на увазі різні форми, у тому числі і пропоновану в даній програмі методику створення тестів і кросвордів. Створення тестів припускає не тільки володіння загальними навиками роботи з комп'ютером, але і за рахунок організації міжпредметних зв'язків з'являється можливість закріплювати і заглиблювати знання, одержані по іншим предметам, які послужать розвитку учнів, допоможуть сформувати їх систем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вітогляд і дозволять їм оволод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учасними інформаційними технологі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077320" y="6095880"/>
            <a:ext cx="838080" cy="507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590560" y="274680"/>
            <a:ext cx="5638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СТУП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467480" y="380880"/>
            <a:ext cx="113364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962760" y="4572000"/>
            <a:ext cx="218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616040" cy="1676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560" y="274680"/>
            <a:ext cx="5638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Переваги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Excel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Програма Excel, будучи лідером на ринку програм обробки електронних таблиць, визначає тенденції розвитку в цій обла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 програмі Excel контекстні меню значно розширен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одаткові програмні інструменти полегшують рішення складних прикладних задач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3657600" cy="249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77320" y="6095880"/>
            <a:ext cx="838080" cy="50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З ІСТОРІЇ ПИТАННЯ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У квітні 1924 року була видана перша збірка кросвордів, що поклало початок усесвітньому захопленню цієї «хрестословіцей». За майже вікову історію кросворд знайшов безліч форм і модифікацій, але популярності не втратив. У освітньому процесі </a:t>
            </a:r>
            <a:r>
              <a:rPr b="1" lang="uk-UA" sz="1800" spc="-1" strike="noStrike" u="sng">
                <a:solidFill>
                  <a:srgbClr val="ffff66"/>
                </a:solidFill>
                <a:uFillTx/>
                <a:latin typeface="Times New Roman"/>
              </a:rPr>
              <a:t>кросворд грає важливу роль в зміцненні пам'яті і розширенні кругоз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ПРИЗНАЧЕННЯ  ТАБЛИЧНОГО ПРОЦЕСУ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el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Представляє собою програму (частину пакету програм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Office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), призначену здійснювати різноманітні математичні операції, починаючи від операцій елементарної математики і закінчуючи громіздкими обчисленнями здебільшого економічного характеру, але придатних і для інших сфер господарювання.</a:t>
            </a:r>
            <a:r>
              <a:rPr b="0" lang="uk-UA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Основний прийом роботи з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Excel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– це створення формул. Вони створюються на основі введених чисел та їхньої обробки за допомогою стандартних математичних операцій чи за допомогою вбудованих в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Excel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функцій, про які буде більш докладно розказано далі в даному лабораторному практикум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96080" y="5943600"/>
            <a:ext cx="114300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0" y="0"/>
            <a:ext cx="1542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819520" y="3000240"/>
            <a:ext cx="6324480" cy="3479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І ПРИЙОМИ РОБОТИ З ФУНЦІ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8384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ff66"/>
                </a:solidFill>
                <a:latin typeface="Arial"/>
              </a:rPr>
              <a:t>Функції — заздалегідь визначені формули, які виконують           обчислення по заданих величинах, що називаються аргументами, і в зазначеному порядку. Ці функції дозволяють виконувати як прості, так і складні обчислення. Наприклад, функція ОКРУГЛ округляє число в даній комір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Arial"/>
              </a:rPr>
              <a:t>Структура функції починається зі знака рівності (=), за ним іде ім'я функції, що відкриває дужка, список аргументів, розділених комами, що закриває ду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838080" cy="507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3581280"/>
            <a:ext cx="2438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Понятійний </a:t>
            </a:r>
            <a:br>
              <a:rPr sz="2800"/>
            </a:b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апар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сновні етапи створення кросворду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1. Створення титульного арк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2. Вибір і обгрунтування  способу 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оформлення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пи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3. Складання пи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3.Створення інформаційної бази для перевірки самоконтролю уч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4.Шкала оцінювання навчальних досягнень учня у балах на екранах монітор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09680" y="274320"/>
            <a:ext cx="5639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ff66"/>
                </a:solidFill>
                <a:latin typeface="Arial"/>
              </a:rPr>
              <a:t>ХІД РОБО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146844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.Створення титульного арк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5335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а титульному аркуші розташовано гіперпосилання для переходу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итань кросвор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Це слово «Розгада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495288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79360" cy="3036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9880" y="55468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Далі налаштування гіперпосилання: кнопка на атитульному листі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Розгад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33920"/>
            <a:ext cx="2052720" cy="1066680"/>
          </a:xfrm>
          <a:prstGeom prst="wedgeRoundRectCallout">
            <a:avLst>
              <a:gd name="adj1" fmla="val -130819"/>
              <a:gd name="adj2" fmla="val 89138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0e8"/>
                </a:solidFill>
                <a:latin typeface="Arial"/>
              </a:rPr>
              <a:t>Називаємо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117d7"/>
                </a:solidFill>
                <a:latin typeface="Arial"/>
              </a:rPr>
              <a:t>Приві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16:35Z</dcterms:created>
  <dc:creator>win 2000</dc:creator>
  <dc:description/>
  <dc:language>en-US</dc:language>
  <cp:lastModifiedBy>win2000</cp:lastModifiedBy>
  <dcterms:modified xsi:type="dcterms:W3CDTF">2009-10-29T12:30:39Z</dcterms:modified>
  <cp:revision>42</cp:revision>
  <dc:subject/>
  <dc:title>Слайд 1</dc:title>
</cp:coreProperties>
</file>