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BE6-46FD-4501-B24F-AF4248E8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B7C-B452-4931-8CF4-6D7D9DFA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547-FB73-4871-AAD4-B9EFD1A4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3C4-1230-4D78-AE0D-232BE322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197E-173E-4303-8EA5-0B46944E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B1D2-EE61-4E1E-983F-5C1D2380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4E07-6009-4CE5-BD06-CFFAF4CC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0E39-C0C7-4FBC-BFA2-84409B33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80A3-8DBE-4A28-8E86-3955946C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CBAA-F5F1-4C5B-891F-6E9D3D8D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5E58-F38E-4FA8-8E51-974B4802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BB8-9A69-444A-B56A-11E3C40F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83A8-9E62-4143-B88B-859A5493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C679-5790-45FE-BF7E-C3BCC20E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D723-E252-4C0A-8EA5-E81A900E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2B69-BF2A-4112-A0C4-55C915E0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AA69-A58A-4854-BF75-52668D47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42A22-0FEE-45D2-B4F7-82AAEEA4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66AF-7C90-4F0E-86F6-4E4B9A49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5D8E3-7349-4129-9110-C107F4BE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C7EFD-4D02-4287-AA8D-0EFB4D61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6BE9B-D8EA-43A2-979A-F4ACE2A9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CE3-5B9A-4E4A-99BD-03027FC5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B8C95-5865-4D3F-93E2-EBEF6069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A15AB-3197-4BCB-B395-F85936F7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5792D-3BE2-46AF-BB24-21BCE84D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01DDD-198A-4C7B-BE88-B40F4C18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8CDE1-E9CD-4198-B6D3-2754D91F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0A6BA-12E5-46D3-A154-6D31B8A9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4E04-9DB7-4D1F-B2A7-6E9C9762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89808-2D74-487E-B686-D0ADFB90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70D32-C787-46BA-A0F0-5B46173A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FE02D-F462-462F-B380-02A16409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015A-A98F-482C-8A96-A0B1198E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F2500-20F7-4ECE-A07A-85475BD3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B24DE-9EBB-4B63-B937-3636A9F7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CA9BC-1F68-40BE-9C0B-1E2F185B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9C7D5-DB3B-48C3-B1E0-50DF5E09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2A5D1-BC4E-4A54-9A7C-663F51F8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BD511-9BDD-4D2D-9A50-69224886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FE477-28AA-4D3D-B2A9-9A6482E6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5D440-4FEA-4450-86B9-5CD3AC8F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9AD79-F406-4E38-B1C9-46FA029A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16AE5-0B84-49F8-9E5B-CD1629DA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AF6-D86F-451A-ABE0-7E19B942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20EF3-AE8F-4D0E-9707-B1124A62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C9CB8-1C28-4B54-8479-0137700F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14BE5-3D05-4E63-AFD6-D72504CC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3061C-9448-4F7F-BA12-A2D0265E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01F8B-A269-480E-9FF2-87E8BB80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D5B0C-DABB-4DDF-9341-7ACACEF2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04EF9-E9BC-4187-9945-FA08B114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DE362-E6DC-4F01-B7B7-78BD7A20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5E907-7AEA-460A-B2F8-1C8FFEFD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28858-95AD-4A91-A48B-DC91633E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4B1-D2BB-46B4-A3F7-EACE5755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90237-A14E-440E-AE35-4906AD4C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FC8-E117-4D3F-9769-09031895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174-E613-4338-AEC8-A1205660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0D1-3A75-4661-B0B9-01B62DC7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F7F8-D3F0-4AE5-A750-86DB96EF2A3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F4B4-86F4-4CA6-BF47-24513071A10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A827-571C-4ED1-BE1C-92589ACE89B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EEA5-8BAE-4795-9C65-03297088BED8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E8A5-1C5C-495E-8C5B-B16515C0875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Машинопис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3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6840" y="2571480"/>
            <a:ext cx="352116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йцук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фывап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ячс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177800" y="2428920"/>
            <a:ext cx="35211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ьбю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гшщзхъ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олджэ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4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2499840"/>
            <a:ext cx="723888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иработка безпомилкового руху пальців на клавіатурі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міння набирати текст з великою швидкістю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міння набирати текст, не занурючись в зміст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trips dir="r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2785680"/>
            <a:ext cx="723888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им меньше, тім кращ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им більше, тім кращ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тандартним письмови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588440" cy="1176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2714400"/>
            <a:ext cx="723888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исота такою, щоб ступні ніг торкалися долу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исота такою, щоб коліна торкалися столєшні столу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рай округлої конфігурації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12760" y="493560"/>
            <a:ext cx="7493040" cy="1938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2714400"/>
            <a:ext cx="723888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об</a:t>
            </a: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ить перерви чи фізкульпаузи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роботі на15 хвилин кожні 30 хвилин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обити, не встаючи з-за столу по 8-10 годин на добу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двинути монітор поближче до оч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195120" y="993600"/>
            <a:ext cx="7558200" cy="1657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3000240"/>
            <a:ext cx="7238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казівні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ізинці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езіменні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7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верхній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основний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четверти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1357200" y="3714840"/>
            <a:ext cx="5500800" cy="1071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2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3068640"/>
            <a:ext cx="72388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на клавішах “а” та “о” існують маленькі виступ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розполагать кісті рук по пам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`</a:t>
            </a: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яті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порахувать ряди клавіатур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1280" y="549360"/>
            <a:ext cx="6912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. Як можна визначити основ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яд клавіатури, не дивлячись на неї?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horz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4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07-12-06T11:25:14Z</dcterms:modified>
  <cp:revision>19</cp:revision>
  <dc:subject/>
  <dc:title>Тестовое задание </dc:title>
</cp:coreProperties>
</file>